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1677-ED3C-454B-AAFF-707A474D7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A62F-23CE-4FF5-A7D8-BC21F0981E1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A72E-826D-4E02-9FCB-36157DE5FB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D7DE-66BE-46A5-847D-ED3A8075445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5010-2A69-4B0B-8795-F57A85BC89E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58D9-9E79-441F-A55C-53F3FB68411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CEE8-C977-455F-8408-B0F89B835EB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DAC3-2D2E-4E56-9F78-A211352A0A7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B950-216F-486E-913A-3849EA56CF7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1BE7-9D46-4477-ADEE-8B97566DB0B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B5D4-CAF7-4E8E-AC74-5474950D4C2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0AD5-4B7C-41AE-AF67-8CF4160BBEC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4D48-8FF3-490A-8AA1-7FE5AEF86C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125E-9AAB-4959-8F7A-1CAA2CF8B4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2D5E-48EE-46B4-9578-7FDF46546A4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BB73-A529-4A1D-A0E1-A4D29CED501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D0B3-A08E-4E52-AE37-6C9FA6332A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5676-A432-4417-B5F5-2CB895C5C1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076C-349D-47B2-B38C-4CC744BAB7B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331A-242F-46EE-98A9-C19E1646E7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F98B-B0CC-476E-8632-754C5CE4FA9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3942-184D-414E-94A3-48A7597FF51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7B16-3AAA-4ABF-8766-E6B9021CCF1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CE91-C360-45A0-95D7-DFD517EAEAA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59B9-61C4-4D4A-986B-61463073A1A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0ED5-430E-403F-9EE0-69B6A018572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26DE-47B4-4CE7-ADA8-B21FF0419EB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A4F8-A5C6-4B9A-A259-735611E503D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2D6E-B5DC-49BD-BCB5-290630B4F7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C00A-FBAA-42F0-9A04-83F003AF708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4F8F-8C78-4233-A59C-973F57876DE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5F07-4CF1-4DE5-A46E-DD2034235D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7CB6-F22D-4463-BA44-2314628C7FE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21F6-D4C1-4A41-AD77-DFA366C5FB7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CB87-131A-4315-943C-C3286E508DA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25EF-54DF-492C-B1BE-BDCF295A96A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B6B78-7910-4F59-864F-28151BFF3B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CDDE452-71A4-4FAC-B515-85CF805B8B6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5A7214C-9039-4FDE-BFC5-29D50C2FB3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1D3734C1-A27D-42A0-B783-191104D385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B86C88A0-0E4C-41E8-AC90-BBE0C3B63B7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1EE3CB2-ECFD-4372-90EA-0041A4D5CD8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FBC2B73-5217-4A34-8A10-885634F389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5E99686-D92E-4372-A1EA-86D16AC356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E0A8186-4320-4D74-89B9-1132138D65B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5D97E800-7447-4CA7-84CB-650CAE6176D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F928A67-B722-40A3-B428-CEABED2AA2C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617FA15-023D-410A-9B23-48B66BB336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B17974F-91FA-495D-880A-3E3276D51D6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3406A88-07FF-4291-AF7E-B83A9DADE72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D9969E4-5F1B-4F89-B1D6-A5B41460ABE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4549EDB-182C-4401-9246-5317D8D076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47DE6BF-99F8-4ED4-9611-A3CE113CD21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52D50B4-EC05-4622-A5DF-5AF9127B4A7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D94FD74-55DA-4489-A7DB-115BFB199D8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78FCB8A-6B4F-4715-B0E8-00686F0D44A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DF3F9C1-CD3D-4534-8EDE-0C7FD15B8A6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6C8EA46-F362-49E2-B41C-97FB3D551EC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EE07F53-F315-46FE-A682-30408AE423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3C044CB-F2D9-472C-B8CB-C9FABBE46AE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470B3FA9-8291-436C-9B44-DBD931A933D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A82AFDC-74E0-4664-BA1F-DE7DE50D5AE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7A1CD8B-1B7D-4D8C-B0C1-AADC97600FD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DC9D176-CC37-4F11-A32D-515A6DE2032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B77E134-F298-437E-8927-A248222CB0F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65F3863-0066-4C53-BD17-3361D34A1D9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89D74180-7234-4D07-9267-DBF49138832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441E7DE-370D-4A48-8B5E-B7E0D3F5689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8979AA9-D41E-476A-BD70-E9F83184961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6F63A3E-9E84-493B-8718-9390094082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325C9F-568D-4ECC-B90A-34C01DE154B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803D080-6DD3-427F-8C80-7EE4845653A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61F17A42-24D4-42D7-86BD-2AC6EC30F9B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3B5D0B6-8FE1-4706-A8EC-F05D2357B48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B45CF0C-912C-4502-9EA4-C3994BDD26D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4A67EDF-7A3C-405B-8232-6D6ABC34CDC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9E04A28-6B25-4A7B-9F6D-5CF711BDA6E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8C3E3AA-FBD2-483C-94CD-35141203DE6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7C5B3B71-0F00-4532-99CC-AED31678F66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02ED24A5-1599-4B68-993A-FFD0206BC3D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45359EC-6CDA-49D5-B4FD-3981DFEDB1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4813B4E-7820-4040-BB94-E56FD6E093E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084877E-6A11-4F60-849F-564D9C6FE8B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908C483-0657-469E-A6D1-246900C8DB5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A78FE75-AB66-4351-96ED-255AF08EA1E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9EB30BC3-3D30-4347-B732-71325BCBE0E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A0710517-A423-40C4-9E78-464AFD2D169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ED55BA0-B43B-4922-890C-AD5313DCB00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F014213-411A-42EE-90DD-FDA93B3B28B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30F92FE-699A-4668-AD20-A2655CBB946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2093F28-0FD1-4227-AA24-21C3FC339BF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054C6677-92BA-4F25-BB11-54A74B357C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0A8A640-FA73-499D-9B81-92534AE1D87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38CE8D69-DC59-417D-80A9-7CA60D394EA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CB1B929-F234-4370-8C8F-92AA49C3EFD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AE0AF06-DE6B-419F-B35E-5B8D12469E2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4ED4170-5534-46A3-9522-4C922E68502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ADC75B5-894A-4AA9-BD9F-C05535D5E34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E412232C-3549-4BD0-8858-DFB7C226348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F4ECF44A-7F20-4FF9-A7F2-E7E7E6595AC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505E3AE-7A91-4D58-A22B-1DEBA704EFA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3CEC079-3FD3-454F-A785-8D2370734C6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B244C48-7F32-4E73-AD4F-74BA8A8CA1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AC5C929-9AF0-4506-9B8B-CC17B40F8CC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4DA772B-8CCA-4D9B-A60A-40BB9ABF68A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832514A5-5E3E-4C2A-9C53-3182BDEC443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1C28798-92E9-46EA-964B-C571E06E3D4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9BA6189-BFE7-4B0D-BA94-2C883ADA08F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1939882-74B4-42F9-9B2C-F36AD03584C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FEA0566-4414-49EC-889C-A3EF19B7242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9A79C46-67D0-4BEB-B899-BB7A417A47F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15663224-44E5-40A0-A4A3-9A0AB06973F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9D6B7632-DA6A-498E-9B8A-B4BACE22E19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B8CAE1E-C14F-48E5-B221-AFF224AB95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2A83B773-B908-48C7-99D4-633E402B912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12A78F4-FA09-4BB1-9CAB-8E8B164AF6C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D9261D6-0860-4EA8-8156-B3E066B5DBB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3AC49E8-D512-4CDB-B223-44F66E3B89F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071D6CD6-0395-4857-9940-16D46C616FA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7F685C4-6E12-4A08-AB7C-0F44BA7148B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977CE8C-1924-4119-ACC2-0AAB9A0D514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8A9BAE7-66D1-4AFD-9095-94CD2ECEE5E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21D8ACA-A6D1-410E-B6E4-4AD1DFB0389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FCE35E0-B3B0-46E4-9BF3-C2C2D8A3A89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5A1B04A-B973-4A4A-A3C4-FC5427AB33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84A16CCE-B8B7-4759-BD66-7F51DC4CF29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5E5EA090-8FB4-40E8-8C7E-027E685A0E4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AD3EAD2-D2C6-4938-8BDF-D9AE8A0C634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F436ADE-2595-40B0-850F-BC8290F7659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C542849-BC55-4D6F-A513-E9691F7C6D2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FECF482B-3165-4FAE-9036-38927BF88A9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519A546-EE0E-4BAF-8EBD-62BAA0F9325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B1C3ABBC-18A4-4AF6-8E18-8DFE7926746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ED8CF949-89A4-4AE6-B7E8-A25ED74883A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36CB778-97FB-4DE8-876F-CBB685363A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30006C3-27A0-40DE-AE8A-D85B4BCB21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0E3EB7C-1B3D-4E39-BB02-4F055CB37EC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6B8C0A3-3C11-4A0C-8237-B842B424F88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C0E8653-0214-48F8-8FA0-18047B13BD4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F66106D-E936-4ED5-AA24-087F0201792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C5A2A09-7267-4E5B-8CD1-73CF2B1AE11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DA3D055E-1DF4-484C-A257-C92B53D519F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E2682B0-9279-42C7-B982-E1C02176D45D}"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25AB8C4-18AE-4DD2-9782-8243681470C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8D51C5E-C26D-4DA3-B658-3C87102ACB5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0FA4410-E1F0-4CA6-B3BF-2D989848F1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D87A563-0407-47D5-A9E5-96D2CE265CA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56B2086-176B-484B-98D1-920653A58B3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CD1D2CC5-DE4E-4071-BE58-A00A0DB4099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CB37ACF8-445B-4D7E-AE59-432394AF614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DC09E1F-8E75-4889-AB28-560E70F0486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AFF8353-8ABE-4E42-B516-80DA56250A5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72A7561-0170-473E-8A64-2DC8D3FD48F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B1D9410-AA43-45BF-BE68-07C4C5BC5AE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005EDC6-F13C-47CD-95AC-4B73610273F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AB307E9-D1DB-4644-B646-FCE6CAB0AF7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F5BE60D-2E34-42A0-86BD-6AAB9EAEB9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C65FA1B-DF7F-4BC7-AC90-32FDEA3E9917}"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9FE27D83-E4F5-49C1-ACA6-608AE209073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17C893F-0222-404A-B456-91551524D9A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335C0D2-D349-484F-B6E5-5C84CDE5E34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76D828FC-9BBC-41E6-A2D8-43C9620FBAB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B558D272-602F-4B37-9C4F-FCBB4DA74C9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DCCACE4-1C14-41AB-9C67-E2C361F72B2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E0F1F26-0B44-4915-9167-EE89D909307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8A82CCC-9F35-4C9F-82A9-AE2A2CAE614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9E6A816-C636-48D0-A4B0-2104AF7C9A6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14643782-9F34-4023-ADBD-A767885DD5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F4A8B82-B53A-47F2-9B40-E9AFDD69E57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FDCE2121-5549-4E54-8017-3B0B36F8D26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C771680-88DA-4181-82D6-0EC47268985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7479090-4C55-487D-AC39-975242BBB44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C3E9FC2-8341-418C-9F51-19910939A75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0679338-C3A6-4102-8169-AD82A92C2A4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C26C74C-D444-41DB-B966-6E1CE8A1F67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B2A88586-F9B6-48D1-9DA9-0F49CC3C7BC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0BEE116-3E4F-4E59-8A7B-44BC5AC97BB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D0BBC98-9701-4EC4-BDA2-54172369BB5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7CDF7FE-3F44-4FC4-B2C4-0D679FC78AD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92831A1-AC53-4CF6-90F8-9D8EDF2727A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825B627-E36F-48EF-94A7-CCE15F9656C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48578A81-BED9-48D9-B99B-83F45AAE892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A1DD8D6B-AA84-4761-AF7F-8B44A32D527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349AC28-69E5-4A18-9C8D-DBBDEE46623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2CB935A-337D-470E-9797-8988F56C568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9C8D0B8-E832-44AD-9C83-FBCAF1B04D3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7C2705F-DB62-4265-8C8A-B02DD497C7E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AF8836C1-63BB-4811-AAFF-3DE6191DA43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676F5D20-EAD0-4A48-889A-95E08C098A6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1A9128E-2D28-4513-8B41-EE276FD978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F382C92-83D7-4838-8925-4B5C66EF5A5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A067E1E-801A-4DCF-BA98-4566E132093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7DE4BF1-BEA8-44BE-8330-D66E39C7983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0D4B4DE-0377-4E9F-9B03-1650D3689E5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E034646F-873B-4BC3-B944-3E59230D727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30F2748-DBB7-4AFF-B568-4FC66485C6A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E213FCA-68DE-4C42-A278-611BE02889F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C39AEB7-B7A4-4C09-A3E8-E9D23D7281F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2B6E915-092D-44CA-B4E6-EF1A27E6580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F25D24D-1257-44F5-B849-9F334B02592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62B71F63-8D27-4602-AEDC-2357E3CEE9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3F64165-E77F-421F-8B34-DDDCBC94568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2B95331-0FF9-444E-B5B0-C0742CDD7D3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E54D243-E4E7-4A82-9440-7F1C66D2A49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6D1042B-ACB4-4B5C-89C0-DAA65AA9F51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69C7CF6-5696-40BA-8D19-79FC8E6477A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D55FA0C-A8F0-4878-980D-60FCECB8B3D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A05E6471-0C1D-4224-903D-3B0C44ADE0E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5A6CA78A-C6B2-421A-A30C-A901C51815E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0851DBF-0348-471A-BBAF-BA136E87743C}"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4301800-5253-41AB-B265-FF9B086E1C13}"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FCB82A6-FE40-464F-963B-7747AC42B30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C452E71-C131-4CA2-8C2B-7E534C91F7A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18A7756-F1C4-4349-A3D6-376506083BF9}"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DCCA4A41-3C03-49EE-9466-89E4A14D425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036E1212-6A1D-4404-90AA-5B73CC713745}"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5ECC333-A974-44B2-AF31-6E810B1E14B0}"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7D29C6A-B475-40AA-8942-D5F5A6CE379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E580854-D321-4A0E-B38D-19A78613EDF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C83A236D-E4C5-4E7E-8F55-307FD691CA9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C5DAB571-0175-40A0-87A9-A45E67B37CF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D5414164-A545-4F11-BBA0-C24F728FB22C}"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16378FF2-4FAC-463B-9D81-F6C83F883F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573C763C-B27E-4359-82D7-01541E715E1E}"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F663B2C0-A6BA-472E-93D9-1F2C2252D01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DBFF489A-FEE3-4770-9382-EDB2CD444B7F}"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D24D190D-F9A4-4FFE-A6C9-79F7874F0843}"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F85C1199-CFFF-40D6-B119-7A0395BA443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D75C5362-B8D1-406A-B754-52C1BCA20C2D}"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22BBFA58-DDF2-47AA-B3E5-F168E20B114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E54D37C0-4467-4A18-BCE1-B6A84F40617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6F91E019-A9B4-48DB-83FA-12830B91609E}"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CB7F2BB1-8C16-4A4F-AE92-D815F782CC1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D192CA80-AB30-4E31-9C79-04055F4558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E2533CC-A4AD-4F76-BB5C-FA8F808BAB0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FE7A8000-6E17-42E5-ACB1-CB4BE00062C2}"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994B2F8F-8B32-4366-8510-A8E5084CA9CA}"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A120300-8D22-45BB-AED6-5937A217D1AE}"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62694F3B-321F-4D46-A125-3580F2CC0197}"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7A96181-3125-46D3-BDC6-21BAC36BCFE5}"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7FEEE2AB-AC17-4077-98C9-35A76C38E53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E1F606FB-2939-4F45-A2FE-7D264CFC4E68}"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9327A9C0-B3E2-48D5-A3B7-06998218BE50}"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D9F8943C-0157-46CC-991C-45FC0C8AC92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634C447C-3E36-45F1-972D-4C9629A379E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2D4C7424-655D-4425-A726-E18D65DF5B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7BEBA54-5246-4A01-B37A-9A6BD7366F9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0AA6ABE3-9C27-472C-A302-9AE7AADD94A7}"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CE9CBB4B-D831-41F5-B139-F2163A2A81D8}"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D52681C1-E207-48A9-A9C8-2F5129CB780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B8D40A8-8F55-469D-A2F1-B35E6D0515CB}"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2E59BAB-578D-460B-B740-0A488E85E8B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A77DC8B1-C9DE-4A7D-973F-89FB67A7C96D}"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51216877-D88B-4FA3-8BD0-18A33B66524C}"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EA92C873-4F1E-4935-9281-EA37E44F3F95}"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359C9CAB-F897-4173-AAD5-1AB4AC00E1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9EC2DB8-A342-4C36-8139-D59769D10EB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E696D953-93B9-4267-9F75-BD3F8A72DFD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5F842E5-08C8-40AF-BF74-09B3F16D933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4037439C-B983-4019-A5F5-1391FE04AD42}"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D426C044-414E-4AA8-BB3E-74FCE543DBE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4850A4CC-89AC-4C47-B3AD-5F68CD44AD3D}"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8F4CA423-A867-4C67-BE9C-0684DAF2AC2E}"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4EC0698F-F2E1-40B9-996C-FCDB927C3F4B}"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6FFB745-5911-42D3-99A2-638F64572469}"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5123D7F-B62C-4EDA-879D-2CD8B95E1E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0978AAFE-B53A-49ED-A084-82E44070E27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0B539A96-C2D4-45B2-836D-1FEF94F2BDE5}"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4AD49A95-BB63-45D8-AFE6-87241B5FD8F3}"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BF6ED5EE-EFCD-45EE-91DD-DC0582A257B3}"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059930FC-2360-4DDF-AFA9-C3EF8A2A7CF6}"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0A696AFD-2ED1-40DA-AC3A-9950919275DD}"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9729C1CA-9159-4D1B-84E9-D4D3F0A1C444}"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CFD7DBD6-4BFA-44F6-96DC-E3B6BCDDA3A9}"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88D6BB08-CC7A-4089-B145-54055718059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14645FBB-44E0-4268-A276-85941261059A}"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1A590CAF-A4D4-44F6-B38B-2F3AC605C2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03EFDE5-7D2F-49A0-9383-3BDABD285BC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4D0C1F90-BB7B-4DFA-9BFC-1EF6F0A2AA98}"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1FFD1BB-ED8C-474A-BE0A-95A996994F9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C9C67833-8345-4008-BB39-5E571039E01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09977FE8-6617-439B-8931-780C1DA10E2E}"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EC7B2E38-73B8-46AF-9283-67FC4A64EED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E0D88198-CD7D-4CB4-B91B-CB741CF134E1}"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0E51C7FD-F93F-413F-96A8-EF31EC18D23C}"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CBCEADCE-E298-4EEC-954B-7BB528153A6D}"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E1D46A05-5400-47BD-B580-3C3884F112CA}"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1EA3C92-8D54-4A0F-95B3-5D8380AEF0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358EBE00-F405-405A-9199-B28FDD64692A}"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797C01CB-033E-4518-AD37-F2E7E11ECD39}"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95928654-8142-4BD5-AC71-867BBA393294}"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D9654C4-5F8E-4B90-AF02-BD63791D26FA}"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14AB890B-2A34-4D98-A480-F6124CB3C3DB}"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E5DD8C1F-B6D2-47AC-862E-A3E3D11D1ED9}"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8572F984-2B00-42EC-82FB-AC7FFEC70F26}"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AD33D3DB-1995-4327-9731-0B47C7DB5C07}"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274E63C4-25DF-47E7-8D6D-482A0DF35857}"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705D599A-B0E1-4B8E-BC2B-76718F51EBB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A21F8150-E496-4D5B-9F47-E9C16BA82397}"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24998029-7DF2-4B38-AA93-E3C6ACFF0ADD}"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B0703D93-91C1-4F24-8321-FC5637982F6D}"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063CADF6-F6EB-4B15-8C13-2B8A8E315A8E}"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53196943-4002-4EF0-BBC1-8C3CDC225DFE}"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C5639159-4F33-4C18-9B57-E4BBCFC06EAA}"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9ECF4B1A-1BC0-463F-9FE3-9D6D97180464}"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80EBE5D7-4256-40B4-B4A9-82A8CE6DB55C}"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07A748E1-0A98-4EE9-99E9-135478195071}"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06D5138C-128E-4845-BD62-10D35ABDACF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DAD2B5BE-0018-4125-BDFD-2EAEB0149DD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1B50BFA-D502-4717-82AB-81B66AEF979D}"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92066485-0097-4F52-8E28-E84D89860BD4}"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D8299ED1-0FF1-44EC-AB65-006C2B5DC99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5C2D3C80-B389-4003-8595-68D9F4B02EA9}"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3C3EFA53-04A1-40F0-B4F1-208BF0271216}"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C51D96C5-74E6-4618-BD95-77FFB86C0049}"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B404152-3211-4ACC-95DF-B75C19D6C710}"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7A97A03F-A028-4E39-9DAB-8748C81F75DE}"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C48D0DCB-A82A-4A25-A2D0-24A028221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5ED8BAC-01A9-4689-AFCF-39E0BA916CF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8B548A67-5E36-4D6B-A38A-639CF07769BA}"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D89CBF84-3338-4438-965E-A56075C75D5D}"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BDCDE3FE-907B-491F-8FD3-9FE446BCD9C0}"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8B3689B-6D64-4040-831C-EFB5F18105CB}"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C54FA4DD-0342-4767-AE0A-1E2881A31A08}"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F4BCB62-D552-41D3-811A-26F9F35B0B57}"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48186BFD-AC3D-4823-968A-548235258D6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8A4DBBF8-91E4-4C1D-A2A9-161AE20C221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32B1D47E-A913-4CBF-92AC-38B81FF2346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E2DF5E6-E5BF-4389-9331-93B070AC3E7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3D6EB4BC-89BB-4BC5-A869-5B4E0315366E}"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B88F7DF2-DBA2-4294-A5DC-3D115C055D75}"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26979CF6-D330-4A01-AB28-D425415B7659}"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D19B2848-8A80-448C-B81F-D89FFC9F6277}"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3D79C2E6-96B6-4EC0-AF37-8A3DD5DDAC06}"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4A7DD7CF-4C06-4015-9761-E16CF4C0F582}"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B0C830FD-8957-4304-B572-A3634B433720}"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F455FB3-2FDA-4D7D-AEE4-1908EA8E1575}"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2655051B-3108-4A6D-9D52-AAE91BE982F1}"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4D98D1F2-75D8-4A72-9CAC-D77A642F460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E67E92CD-C328-4FF8-B28F-64A30057AF2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9F115169-E591-43BB-837A-9B6460A3492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48468082-103F-49B8-B637-2A5928AEA646}"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602AEADE-9FBC-4504-B5A1-21003CEA8170}"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5A586888-A53B-456E-B813-69772BE7F9A2}"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C5E49B2E-2863-4367-B707-B2DDD6FBEAC8}"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C58F0702-0350-419F-ACE3-DCD084F2D337}"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56EBCA0E-BC43-45F6-BA35-9672EAC5F6CF}"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9A4AE613-DDAF-4497-A7D5-8ACE9A697A24}"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1A6B950-A46D-4DBC-A937-810FD30DF8B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743A52E6-5F97-4A10-A58E-F8B094BE1E3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790ACEE9-81C2-4132-A375-39150220BEBA}"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3B8FA5FA-6A89-4D73-9328-4D79C24E571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460AAC7E-DDC7-4DC8-B86E-5D5D6D636139}"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E8845313-0DD0-4468-BEE6-D7637A3C98EE}"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8BCDC14A-7878-4A12-B7FB-29161894072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62CCE449-F921-40CC-AD52-9C17C225CCB9}"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83984A87-F8EA-4B62-98E7-BAD21ADAEF53}"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E2DE7A78-3705-48D7-94B7-C3F035D2BCB3}"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0022954D-12C9-40DB-AA1C-7027857734E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22A841FB-B9EA-41DD-9A5C-CB0BB0CBB2BE}"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0F2325FF-909D-4042-8D1E-78739395E6C8}"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04C6FB3D-3117-4143-B5F5-FDAABB2D9117}"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17F4BA13-50B8-4B8B-A787-EF18C71FBD4F}"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D4FB8068-CE56-44E4-B65E-CB202ABFC68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BE5A44-576F-41C1-8C50-835A5D7008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0C5CFE6B-CBB6-4D8C-AD60-7E2502442A7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AC7ABA7-BCCF-4E29-A39C-6F942F221CF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329C1ED-6FAB-41DB-B9F5-933CCF8485D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591B2CF-7B54-417D-A194-FA851E978E5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06EE0A7-D9DB-4B35-AE70-50422EC08C2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BEC0F85C-A495-49D3-977E-3988E23B7B3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3200F46-A19A-4F89-A931-BC7FAF1769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2D2ED4B-9D4B-42DE-A671-C90536DC19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4FBE887-3FA5-49BD-A4EE-0FBD865849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AD5F1D5-B76B-415B-B565-60475A44B93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56611C49-1A4D-465E-9528-F8CCCB8105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7128FF3-681E-4DD5-B81E-95F661EC654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84DF7C7-5641-475E-901D-CEE34A7EEB2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A8B698-9920-4DAE-A932-4946EA5EB6C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2A82134-1DEA-4EF4-9849-A19E9D94CE1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364CFDB-1138-41E3-89E6-307EFD4478D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0D723C3-C870-487F-9ACF-81B48CB6E14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B3D6E7D3-1F98-4348-8230-DD11DB5C266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54E6014C-1E89-4F4B-8B23-FB346F8E720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FD806B5-08A5-41C6-A7E6-31BAECC1F95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6AE593D-A9A6-42AF-BC97-63EEB93C6E7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6805293-E443-4312-AA22-16A8B4316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A3478B5-16AF-4ACC-90B0-E15AA0BA5E6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9F9E974-4472-4980-8326-1DFE4563DDE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640C1C0-EB16-4293-8EF2-35934FE501A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803C61D6-F953-4E2F-82FC-10F92238BEE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F3A3D82-03DC-414D-8E91-8A91B21CD0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92921AE-C97A-4B94-A00B-9B6EDA5E38C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466A46F-E238-49F0-A8CE-48354D8AFC9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54A81FC-2FD0-40BA-8FB4-7EF2793DE05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9334F1B-0E67-4861-8CBC-73EA172E30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CB541C5-F67D-43A9-A345-E13C95B8D0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253120E-B4CD-405F-9F90-0AF05E4B4D3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A135AC8-728B-4B31-BA17-77A08D264B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39D03CD-6E35-4ED9-B094-37CEDD6D73E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387202B-676A-4B00-B994-84694F4CB3A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FFF8710-FE0F-4AE9-BAF1-57AD2C0757D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015000D-A5D1-461C-90F3-F3A4CC7F74F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1B332642-BA95-4217-BE10-78416657F72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1BFA3B5-698A-4AE1-A46B-EFF0AF619CD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B488567-A5CB-4983-8008-93C881285C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EDCEF51-1CB8-474D-84D8-298F440F3E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34E1053-2840-419E-A1FB-E184FF9481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1C94-CFAB-4F90-B7AD-5193AE648D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C0F1-D0CA-4618-87E8-CE41CAF85C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986E-F1BD-4B0C-B925-1F26C5FBEA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C408-E78C-4561-8569-78B7C65769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F54F-1309-4D3A-AD86-F7FB5B4BAB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7824-341D-4E67-BF9F-9422EE4CA3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7989-E2F6-4FB6-839F-980DD1B083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C99C-3A46-46E4-8CF8-F021C8805D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D488-4017-4E79-8AFE-9AED331D222B}"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D939-400F-48E9-8A03-B4EFFC0429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CFF1-5066-4171-9D7F-5E601B09B6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32B9-AF4F-443A-9533-F08EFFE07F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32ED-A222-4FE0-91CC-A7E864B66E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CDD7-5C4B-4380-B3B6-63CAF3B59A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2221-6A11-4153-B485-0C92344F95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F5C1-A3D6-4416-9630-A7CB296641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FFDE-ED23-4B6C-AD49-CE4008F38C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DEA1-0FE4-4396-A3B0-28F9C98E57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1608-A4F9-4E9D-9BC3-6F1A82DA8A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AAB1-D340-40BE-85BA-F0C758AE8ED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5361-486D-4634-81AD-B2656A94CB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14FE-9F0C-45E6-90AA-CF3F9ECE1E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BBB1-7864-4A74-ADB9-ADF498756E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1188-964E-4D46-8BB3-C41E9FD6E6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D741-A786-4FE4-B11F-E6E9E21423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68E4-DB3B-40F0-AECB-9185EFA265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F799-1DCF-48D1-9C2F-A8EC59293C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B0C2-97A3-4277-8783-4A873B4AC1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9FAD-E0C1-4C66-A4C7-FFCBDD11B8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93C6-54EA-437F-8A8F-9580BA1909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0C6F-1178-4556-B53E-59D7480BF4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A60A-4650-4E0D-8B92-74E0EBA2E03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C25D-7E28-4778-959D-048620D87D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8A9D-AD70-4637-887C-C3B98AE96D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E457-6853-4530-9AD4-A74B986FB7A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6D97-72D4-42E2-8BA3-05203E59063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F0B7-5593-4B34-BE28-EA713F9EEA0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293F-6B46-4EFE-BD5F-70DACB5DE69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